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095-CC07-4595-8CC2-E098DA50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DC4-3967-4A98-B8E7-4B00B9FA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260-238E-4541-9BAA-3A87C520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DDD-50C9-4FA7-B6D7-52F6AEE4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A8D2-8704-4B75-8F03-7B509BF2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5FFB-AE81-4207-8A31-8465BF0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6CC4-5C19-4245-8925-09CE7248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5FC6-7BB2-45CF-98B6-F52D9CC3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12C9-083F-498D-BE8E-28353359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3D90-1B00-4DF0-9FBD-27D81A2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0DBB-CC3B-4C62-A951-FBDCA7D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5D9-CBF8-40A5-AD9B-BA20A0D3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5055-BE35-4078-A7C8-7285095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029F-07ED-44A9-8431-A3E787B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C5CF-D39F-4269-9917-D189029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C67-4E4B-4588-9ACC-004F56C2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B8B9-E6AC-4650-B824-622BC076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C55-13EA-413A-8909-845BF5A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5C2-0B50-4A6F-8426-C7CC4E32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10C-FCB4-469D-814E-2571236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EEC-6AB9-4D65-9706-7FE19ECE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7A6-D8E4-4D2A-9972-1101508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585-BFC2-4960-96FF-D3670A3B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625-CE4E-4FFC-BD9B-14136ADF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9EDC-2C12-4336-8A6F-ECF1174F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C6D-93A9-498E-91F0-5087F55D3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Verdana"/>
              </a:rPr>
              <a:t>ネットワークで使用される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D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02560" cy="15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鈴木　寿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</a:rPr>
              <a:t>PSS</a:t>
            </a:r>
            <a:r>
              <a:rPr b="0" lang="ja-JP" sz="3600" spc="-1" strike="noStrike">
                <a:solidFill>
                  <a:srgbClr val="00b0f0"/>
                </a:solidFill>
                <a:latin typeface="Verdana"/>
              </a:rPr>
              <a:t>フレンドキー</a:t>
            </a:r>
            <a:r>
              <a:rPr b="0" lang="en-US" sz="2400" spc="-1" strike="noStrike">
                <a:solidFill>
                  <a:srgbClr val="00b0f0"/>
                </a:solidFill>
                <a:latin typeface="Verdana"/>
              </a:rPr>
              <a:t>(netapp::pss::PssFriendKe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データサイズ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64+u32+u32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とトランスファー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ding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で構成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上で個人を特定するユニークキーとして利用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TR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で利用される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一覧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■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プリンシパル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ID(PI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3300"/>
                </a:solidFill>
                <a:latin typeface="Verdana"/>
              </a:rPr>
              <a:t>■ 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ローカルフレンドコー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■ 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フレンドコー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3300"/>
                </a:solidFill>
                <a:latin typeface="Verdana"/>
              </a:rPr>
              <a:t>■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NEX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ユニーク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3300"/>
                </a:solidFill>
                <a:latin typeface="Verdana"/>
              </a:rPr>
              <a:t>■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トランスファード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■ 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ゲームシンク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ID(gsid)</a:t>
            </a: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■ 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フレンドキ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■ 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PSS</a:t>
            </a:r>
            <a:r>
              <a:rPr b="0" lang="ja-JP" sz="3000" spc="-1" strike="noStrike">
                <a:solidFill>
                  <a:srgbClr val="0066ff"/>
                </a:solidFill>
                <a:latin typeface="Verdana"/>
              </a:rPr>
              <a:t>フレンドキ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プリンシパ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ID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データサイズ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32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別に割り当てられるユニーク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X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通信時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を利用して個人を特定す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初期化時の値は必ず０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インターネット設定完了時にフレンドサーバから発行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を初期化毎に新たに値が発行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D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に値は紐付ら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ローカルフレンドコー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-389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サイズ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64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ローカル通信下でのフレンド登録時に発行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極めて稀だが他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D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と値が重複す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ローカル通信時のビーコン情報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nn::uds::NetworkDescrip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に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が暗号化されて含ま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n::friends::CTR::UnscrambleLocalFriendCod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を利用することで複合化可能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JIRA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ではフレンドサファリで利用してい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フレンドコー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プリンシバ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を基に生成され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桁の数字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メニューのフレンドアプリ上で本コードを登録すること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 フレンド関係を築け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アプリから本コードを利用することはできな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X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ユニーク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データサイズ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64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X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ゲームサーバから発行されるユニーク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tyClient::AcquireNexUniqueId()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をコールする毎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発行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セーブデータに紐付ら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JIRA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では、後述のゲームシン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として利用されてい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トランスファード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データサイズ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64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ゲームカセット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（開発コード）と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固有値によっ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生成されるユニークな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n::cfg::CTR::GetTransferableId()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によって発行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D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に値は紐付ら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JIRA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では、ローカル通信下での個人特定用ユニー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として利用してい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b0f0"/>
                </a:solidFill>
                <a:latin typeface="Verdana"/>
              </a:rPr>
              <a:t>ゲームシンク</a:t>
            </a:r>
            <a:r>
              <a:rPr b="0" lang="en-US" sz="3800" spc="-1" strike="noStrike">
                <a:solidFill>
                  <a:srgbClr val="00b0f0"/>
                </a:solidFill>
                <a:latin typeface="Verdana"/>
              </a:rPr>
              <a:t>ID(gsi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ポケモングローバルリンク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GL)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で個人を特定する際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使用され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その実態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X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ユニー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と同義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発行タイミングについて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X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ユニー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の項目を参考のこと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フレンドキ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n::friends::FriendKe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データサイズ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64+u32+u32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とローカルフレンドコード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ding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で構成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D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のユニークキーとして利用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D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本体に登録されたフレンド情報は、フレンドキーで管理される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8:29:44Z</dcterms:created>
  <dc:creator>suzuki_hisanao</dc:creator>
  <dc:description/>
  <dc:language>en-US</dc:language>
  <cp:lastModifiedBy>suzuki_hisanao</cp:lastModifiedBy>
  <dcterms:modified xsi:type="dcterms:W3CDTF">2013-06-13T10:09:17Z</dcterms:modified>
  <cp:revision>124</cp:revision>
  <dc:subject/>
  <dc:title>Ｃ＋＋例外採用検討会</dc:title>
</cp:coreProperties>
</file>