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65A-6691-4CBE-ADEF-59D69992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4D9-0924-4947-A173-6E8E93EB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0CA-CA5C-4242-941B-F2DA2D90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8A5-F6F1-4E90-B05C-CCE38C42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37F-84F2-487E-B780-0C154C83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344-D8C7-40D7-8669-A6CA1D40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C52-B49E-4BC3-A718-717A98E4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8A0-1AC0-4AE7-8C10-51676748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9A6-0035-487B-B191-4C52C6F1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4A8-C23B-4B81-A02A-9BD0A957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B51-3776-4FC8-A2FA-8515B639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B2C-A29E-4E16-84E1-13BDD241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EABE-3BC4-41CD-8C7D-70CD258C9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ネットワークセキュリティ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ガイドライ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般的な注意事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ワーク、又は他の送信元から受信したデータに、不正・改ざんの可能性がある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ッファオーバーフロー”を防ぐために、常に固定長データを受信するようにする。バッファサイズを超えたデータ書き込みは行なわ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受信データの各パラメータが、想定する範囲内に収まっていることをチェック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般的な注意事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受信データのヘッダ部分から、データサイズを取得して利用する”、といったことは行なわ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ザ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経由で、『終了』アイコンに触るまで文字を入力し続けるような場合で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側では常に固定長の文字列を取得するように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ダウンロー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ダウンロード用データを、サーバへアップロードするためのユー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パスワードは、厳重に管理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ランキン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サーバから受信したランキングデータには、不正・改ざんの可能性があ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全般的な注意事項”に従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ランキン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データアップロー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タイトル毎に、ユーザ定義データの改ざんを検出できるよう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用共通鍵を安全に管理するよう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外のプラットフォームと、ユーザ定義データを共有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共通鍵を使用するため、他のプラットフォームの安全性が低下すると、同時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安全性も低下してしま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ランキン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データアップロー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外のプラットフォームと、ユーザ定義データ共有する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外のプラットフォームで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か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か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うすること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他のプラットフォームへのデータ共有のみ許可し、他のプラットフォーム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データ共有を防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オンラインストレー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によるメッセージ認証を行な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オンラインストレージで管理するデータを、他のプラットフォームと共有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マッチメイキン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/P2P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可能ならば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他のプラットフォームとのマッチメイキングは行なわ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間でやり取りす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ケット全て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メッセージ認証をかけることが好ま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他のプラットフォームとのマッチメイキングが必要な場合、もしくは何らかの理由でデータの認証が行なえな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般的な注意事項”に従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5:37:45Z</dcterms:created>
  <dc:creator>Takayuki Hashida</dc:creator>
  <dc:description/>
  <dc:language>en-US</dc:language>
  <cp:lastModifiedBy>Niwa Kazutomo</cp:lastModifiedBy>
  <dcterms:modified xsi:type="dcterms:W3CDTF">2009-11-16T10:41:29Z</dcterms:modified>
  <cp:revision>85</cp:revision>
  <dc:subject/>
  <dc:title>Network security guidelines</dc:title>
</cp:coreProperties>
</file>