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D48D-E4C7-48D4-AC7E-B5794DA2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DBCB-9B49-4936-9ED0-61C209E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35A5-E80E-403A-8D6F-DD5B4513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1B6D-1F1F-47BB-9CFB-BC28709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60E-DB76-4D94-8795-69F9F704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0C2-DD68-44F2-8D35-0888B38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1CF-0064-4C07-B21D-8BBBAB32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77C6-CC06-43F4-AEC4-C434392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7CCC-4281-423D-A856-9ECED8BD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EA6-C740-44EF-AB3A-B42A817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91F-551B-4510-B609-74A95DC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F14D-31D2-498A-AF23-DF2B9FB7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ABE-BCAE-42B7-A06C-F59590E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AC9-F4F3-4DFA-BDD5-F72E610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0CA-BFEB-4417-9705-D69EDA88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1867-2D0D-4EF9-B7AD-BAB6F42D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CDDA-354E-495D-8DB0-7F8504EF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B532-528D-4ACA-A595-8DC6C77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3185-D5FE-4193-AC26-D1379B92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3B82-0AE0-4322-B0BE-E19628F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9E75-AC83-419D-A351-6139AF4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BB60-A72C-41EB-84C9-86EB0E1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EBA4-9808-45C4-8B0D-079E6F5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395D-70B3-473A-8556-CC71456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554-FDD6-48A3-95C9-92B04133A9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48D-F137-4AC1-B7B3-B3CFA2D69B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xy.gamefreak.co.jp/techwiki/index.php?MapEditor" TargetMode="External"/><Relationship Id="rId2" Type="http://schemas.openxmlformats.org/officeDocument/2006/relationships/hyperlink" Target="http://xy.gamefreak.co.jp/techwiki/index.php?MapEdito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</a:rPr>
              <a:t>フィールドスクリプト講習会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資料／講師：保坂 元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資料作成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2/04/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サンプル３：アクションコマンドの発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scrid_t01_bigman_01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くるくる回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アクションコマンド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方向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繰り返し回数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new anime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UP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RIGHT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DOWN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LEFT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RIGHT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AC_DIR_ROT_8F, DIR_LEFT,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話し相手の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objid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を取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new id = EventWorkGet( SCWK_TARGET_OBJID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MdlAnime( id, anime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再生終了待ち（これを呼ばなくてもアニメは勝手に進行します。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MdlAnimeWait( id );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サンプル４：カメラの移動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ライバルツーショット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scrid_t01_hero_01(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{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カメラの座標・注視点を保存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StorePos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StoreTar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カメラの座標・注視点をセット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SetPos( 1192, 175, 3710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SetTarget( 1235, 139, 3605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セットした注視点で２０フレーム待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Trans( 0, 0, 0, 20 ); // x, y, z, sy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TransWait();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３０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SYNC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かけて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座標を１０上に上げ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Trans( 0, 10, 0, 30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TransWait();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カメラの座標を保存していた座標にもどす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RestorePos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RestoreTar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指定フレームかけてもとの座標に戻す関数もあ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CameraTransRestore( frame );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ファイルの場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▼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関数の定義ファイル（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scr_seq_def.h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にあたるもの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resource\script\src\funcset_xxx.inc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がそれに当たりま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▼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定数の定義ファイル（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fldmmdl_code.h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にあたるもの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C:\home\xy_project\prog\src\field\movemodel\FieldMoveModelTypes.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ですが、スクリプトからはここにあるものは基本呼びません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スクリプトから呼ぶ定義は以下にまとめてありま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C:\home\xy_project\prog\include\field\FieldPawnTypes.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質疑応答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なんでもどうぞ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おしまい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ご清聴ありがとうございました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はじめに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フィールドスクリプトを書く手順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書き方について解説し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ユーザーの追加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最初に・・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xy_projcet/resource/field/script/MakeUsers.om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にユーザー名を追加してくださ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xy_projcet/resource/field/script/level.xls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にユーザー名と操作レベルを追加してくださ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（現状、初回のみ２にしておく必要があります！（ごめんなさい）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イベントの作成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この作業はスクリプトから外れますが、流れをわかりやすくするために説明します。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マップエディターでイベントを配置し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その際、命名規則に従ってスクリプトＩＤを記述し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命名規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▼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OBJ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イベン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OBJ_ID_ZONEID_TYPEID_FREE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OBJ_ID_T01_TR_BIGMAN_01 // 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トレーナー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OBJ_ID_D01_NPC_SMALLGIRL_01 // NP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OBJ_ID_D01_ITEM_01 // 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アイテ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OBJ_ID_D01_INT_BIGMAN_01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インタラクティブ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▼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BG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イベン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BG_ID_ZONEID_FREE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BG_ID_D01_0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▼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POS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イベン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POS_ID_ZONEID_FREE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POS_ID_D01_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▼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DOOR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イベン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DOOR_ID_ZONEID_ZONEID_FREE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例：</a:t>
            </a:r>
            <a:r>
              <a:rPr b="0" lang="ja-JP" sz="1000" spc="-1" strike="noStrike">
                <a:solidFill>
                  <a:srgbClr val="ffffff"/>
                </a:solidFill>
                <a:latin typeface="Tahoma"/>
              </a:rPr>
              <a:t>DOOR_ID_T01_C01_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▼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補足 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FREESPACE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は、省略しても構いません。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ただし、ゾーン名とくっつけて書くことは禁止とします。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（どこからどこまでがゾーン名か判別できなくなってしまうためです。）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例）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○　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DOOR_T01_C01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○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DOOR_T01_C01_HOGE</a:t>
            </a:r>
            <a:br>
              <a:rPr sz="1200"/>
            </a:b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☓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DOOR_T01_C01HO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</a:t>
            </a:r>
            <a:r>
              <a:rPr b="0" lang="ja-JP" sz="1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xy.gamefreak.co.jp/techwiki/index.php?MapEditor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：　に書いてあります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スクリプトの記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イベントを配置したゾーンのスクリプトファイル（ゾーン名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.p)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にスクリプトを書きます。（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xy_project\resourece\field\script\src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にあります。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イベントに書いたスクリプト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ID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をすべて小文字にして関数を書きま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例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scrid_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ｔ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01_bigman_01(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内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k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新しいイベント関数を追加した後は必ず一度プロンプトで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mak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をかけてくださ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いくつか必要なファイルが生成され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一度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mak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をかけた後なら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PawnID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で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F7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でコンパイルでき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サンプル１：一言会話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P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.p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ファイルの先頭あたりで、メッセージヘッダをインクルードします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#include "script/msg_t01.h“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TalkMdlMsgEasy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関数に、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mstxt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のラベル名を渡します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scrid_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ｔ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01_bigman_01(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TalkMdlMsgEasy( msg_t01_bigman1_01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BG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話し掛けの場合、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BGWinMsg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関数を使います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scrid_t01_bg_mypost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「（プレイヤー名）のいえ」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WordSetPlayerName(0);  // 0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番にプレイヤー名をレジスト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BGWinMsg( msg_t01_hyousatu1_01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サンプル２： </a:t>
            </a: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はい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/</a:t>
            </a: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いいえ分岐（ｉｆ分岐）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scrid_t01_bigman_02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TalkMdlStart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TalkMdlMsg( msg_t01_bigman2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new res = YesNoWin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if( res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YES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の処理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TalkMdlMsg( msg_t01_bigman2_yes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else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は省略可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// No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の処理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TalkMdlMsg( msg_t01_bigman2_no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TalkMdlEnd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3:36:07Z</dcterms:created>
  <dc:creator>hosaka_genya</dc:creator>
  <dc:description/>
  <dc:language>en-US</dc:language>
  <cp:lastModifiedBy>hosaka_genya</cp:lastModifiedBy>
  <dcterms:modified xsi:type="dcterms:W3CDTF">2012-04-06T09:03:28Z</dcterms:modified>
  <cp:revision>19</cp:revision>
  <dc:subject/>
  <dc:title>フィールドスクリプト講習会</dc:title>
</cp:coreProperties>
</file>